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6DA4DBC-958B-42E3-BAB1-BC4421C557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Img"/>
          </p:nvPr>
        </p:nvSpPr>
        <p:spPr>
          <a:xfrm>
            <a:off x="1798200" y="473040"/>
            <a:ext cx="317988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889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2520" rIns="92520" tIns="44640" bIns="4464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09480" y="2577960"/>
            <a:ext cx="679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5284800" y="263520"/>
            <a:ext cx="118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6440" bIns="464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ass Exercise 1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1/12/95; v 1.0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408400" y="8740800"/>
            <a:ext cx="2031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320" rIns="94320" tIns="46440" bIns="464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structor Training for the PSP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CF1723-F549-47E2-9BBD-5A8F8B8790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1A94045-1163-4962-A008-64DF86404DB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1D75F3-B4F9-45F1-8F04-FD7420FB522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ldImg"/>
          </p:nvPr>
        </p:nvSpPr>
        <p:spPr>
          <a:xfrm>
            <a:off x="1798560" y="473040"/>
            <a:ext cx="3179880" cy="2384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4F06D4-B973-4611-9BB4-1D257F51A1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97364BD-3227-4996-8F1E-141B0185691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1FE55F-7912-478B-B231-3E3E50F73A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AA01C7-4B33-4EE7-B627-CACF442A736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3E1CEE-8CCE-4C4C-A596-81616EC011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146832F-90C4-4068-833C-247C7A752B9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8289EE-658C-463D-81C6-D6BC5CD438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B2849B-5A32-478A-8648-1765DA3687B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935EAB-97A2-43D5-AB2B-A4879A002EA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2BF7FB4-44F4-434C-857A-A0BDD24EA62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10BF07-7193-4EA1-A9D3-A9AD2056D94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048631-F9E3-4121-9F7C-DB0B17FD38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5F2ED2-ED01-4B41-A2F7-B716A43888B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611F792-7B8D-4215-B482-B758665726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E7DC5C-4D4D-4260-9161-2CF1A0E6EA5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0A1EB0-0367-402E-8B68-5F0FCADAE03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822320" y="492120"/>
            <a:ext cx="3129120" cy="23464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76360" y="2830680"/>
            <a:ext cx="5851440" cy="5901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659077B-9E46-4E74-AA60-40E98968D07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C098D174-BDFB-4883-B2B9-44E6AF0E25F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2000" y="82512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: Checklists for Desig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d Code Review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uilding Review Checklis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01360" y="1450800"/>
            <a:ext cx="7599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eps in constructing a review checklist ar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 defect data to identify opportunities and priori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se checks for the defects that you m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e checks to support the review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zing Defect Data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08200" y="1447920"/>
            <a:ext cx="78609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ensure that your reviews provide the most benefit, your checklists should focus on defects th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you the most trou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the most lever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eto distribution will help you to establish priorities.  Create distribution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frequency by categ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cost by categ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endix A12 describes the procedure for constructing a Pareto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zing Defect Data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14320" y="1450800"/>
            <a:ext cx="750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you gather more data on defects, it may be necessary to create defect subcategories to complete your analys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, if 80% of your defects are of one type (say type 20), subcategories of type 20 may be nee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example subcategorization is shown in table 8.10 (page 262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alyzing Defect Data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s R4 and R5 contain other defect analyses that are useful in building review checkli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914400" y="2311560"/>
            <a:ext cx="747252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ising Check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14320" y="1450800"/>
            <a:ext cx="76615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ext step in building checklists is to devise checks for the highest-priority defect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ine your defect logs to identify the specific defects that you make and devise checks to find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should be devised 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pecifical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ddress the defects that you m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ising Check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, if you often forget to include semicolons at the end of statements, then devise a checklist item for this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too much detail can be overwhelming, review are generally more efficient when each checklist item has a small, easily-tested scope that can be quickly and accurately check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925560" y="2489040"/>
            <a:ext cx="5439960" cy="421560"/>
          </a:xfrm>
          <a:prstGeom prst="rect">
            <a:avLst/>
          </a:prstGeom>
          <a:solidFill>
            <a:srgbClr val="3399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ll statements end with a semicolon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447600" y="2489040"/>
            <a:ext cx="438120" cy="421560"/>
          </a:xfrm>
          <a:prstGeom prst="rect">
            <a:avLst/>
          </a:prstGeom>
          <a:solidFill>
            <a:srgbClr val="3399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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rganizing Checklist Item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01720" y="1450800"/>
            <a:ext cx="76723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inal step in building checklists is to organize your checklist items into categor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selecting categories, consider the follow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rge similar items into one catego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the categories to support your review strategy and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xample design review and code review checklists illustrate one possible organization that you might u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sign Review Checklis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07840" y="1434960"/>
            <a:ext cx="37623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 C57, page 705, is an exampl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review checkli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ems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nes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4218120" y="1566720"/>
          <a:ext cx="456084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8120" y="1566720"/>
                    <a:ext cx="45608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de Review Checklis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20440" y="1460520"/>
            <a:ext cx="40510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le C58, page 706, is an example code review checklist for C++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s inclu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pu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{}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 operat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 by line che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open and clo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924440" y="1587600"/>
          <a:ext cx="3976560" cy="48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4440" y="1587600"/>
                    <a:ext cx="397656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otes About the Exampl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01720" y="1450800"/>
            <a:ext cx="75484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checklists are examples; therefore, they should be tailored to your prefere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have an existing organization standard, consider using it as a starting point for your personal design and code review checkli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checklist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hecklists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to the design method and notation that you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to the programming language that you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to addressed that defects that you in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utorial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14320" y="1450800"/>
            <a:ext cx="7824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tutorial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how a checklist is used during the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able to develop your own design and code review 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450800"/>
            <a:ext cx="7935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, document, and submit design and code review checkli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submit your defect logs for assignments 1A-6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hecklists should be tailored for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notation and programming language that you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s of defects that you injec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Review Checklis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88760" y="1450800"/>
            <a:ext cx="7761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oal of PSP reviews is consistently high y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yield is the percentage of defects in the product at review time that were found by the review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yield is the percentage of defects found before the first comp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practice, experienced engineers can consistently achieve high process and review yields of about 70% to 80%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Review Checklists -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1360" y="1450800"/>
            <a:ext cx="78613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lists are us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 the review proces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consistent set of criteria for judging that the design or code is correct and 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mote early defect remo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 the review process to support personal defect-injection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Review Checklis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duct PSP personal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the process - always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personal checklist that is designed to find the defects that you m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se a review strategy and use 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one product component at a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for one topic at a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at each check as a personal certification that the product is free of this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Review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0800" y="1447920"/>
            <a:ext cx="32464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 8.2, page 241, is an example code review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s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04640" indent="-276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hecklists should be designed to support your review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4089240" y="1535040"/>
          <a:ext cx="4633920" cy="41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9240" y="1535040"/>
                    <a:ext cx="46339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uilding Review Checklis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13960" y="1450800"/>
            <a:ext cx="7723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constructing review checklists, your objective is to identify and devise checks for the specific defect types that you m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uild and improve your review checklists, you will ne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ocumented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data on the errors that you m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on the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data can be derived from PSP defect logs and project plan summar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1T13:25:58Z</dcterms:created>
  <dc:creator>Jim Over</dc:creator>
  <dc:description/>
  <dc:language>en-US</dc:language>
  <cp:lastModifiedBy>wrn_loc_adm</cp:lastModifiedBy>
  <cp:lastPrinted>2000-02-29T17:55:00Z</cp:lastPrinted>
  <dcterms:modified xsi:type="dcterms:W3CDTF">2018-09-06T00:16:53Z</dcterms:modified>
  <cp:revision>42</cp:revision>
  <dc:subject/>
  <dc:title>No Slide Title</dc:title>
</cp:coreProperties>
</file>